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1F95-5E15-468D-A2AC-7785552D6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BE03-0BCF-4CEC-9D1F-A9B8BC877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BE79-2477-4DA5-BC10-ED1F22897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FB00-A087-421E-A897-B8C283583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5EB64-3157-466A-96A7-2A0B2DBA6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CD2CB-0077-4E23-8ADA-6AF01A56E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AA0A3-CE84-44E9-ABDE-238585A38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25181-48B3-456B-A9AF-0D02334BC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67EB7-9C3D-4C70-9395-39B5206B5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8F985-39D5-4C88-B378-85CF46AED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1A8CE-121C-4BD2-94FC-41D7200D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FD3A-0CD1-43E7-9306-1C9C9FD16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20B94-6D24-4E89-8AB6-5B30D2FC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B48CB-3EFA-469B-9D92-38EE21C5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9157E-B134-4B70-B805-2F5F2FD01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3C702-1001-4716-85F9-016F15D2A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D9756-1D24-4CEE-9B18-6BA6F32C7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2EC3-8226-41E3-A7DE-A27056B5F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7EF1-3D26-4177-8AA7-A7D1FDD2A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F53B-C766-406F-A806-64F6CE908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F02D-4A31-4AD4-BBF4-CDFF5BBAD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F5F4-8C87-407D-AD82-E78E5C5D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A456-43A7-4128-96A3-80721515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47FA-A6DD-4B40-BA14-26C10970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FA37F-99E8-4027-BE71-86214FB9590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D1D98-86BB-413D-AFF0-7DFFE783E36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Педагогическая практик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актику проходил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хтареев Оле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афаров Ильна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ереселидзе Гиорг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ерышов Владисла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фарова Аи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рмашула Ольг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нбеков Дани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илимзянов Робер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зат Гатаулл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http://cs.nblz.ru/pp/c639119/v639119722/9254/Vr6umYF7i1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http://cs.nblz.ru/pp/c639731/v639731308/725/1uFRQf9N3e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афаров Ильнар проводит урок в 4 классе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http://cs.nblz.ru/pp/c636426/v636426308/4b733/0tpAg_xe9f8.jpg"/>
          <p:cNvPicPr/>
          <p:nvPr/>
        </p:nvPicPr>
        <p:blipFill>
          <a:blip r:embed="rId2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10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нир и Азат проводят урок в 4 классе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http://cs.nblz.ru/pp/c636426/v636426308/4b702/AVV-JNh8vUk.jpg"/>
          <p:cNvPicPr/>
          <p:nvPr/>
        </p:nvPicPr>
        <p:blipFill>
          <a:blip r:embed="rId2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http://cs.nblz.ru/pp/c636426/v636426308/4b6e6/6a9vZy41db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10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ида проводит урок в 5 классе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http://cs.nblz.ru/pp/c636426/v636426308/4b73d/yUhbSBEjxTk.jpg"/>
          <p:cNvPicPr/>
          <p:nvPr/>
        </p:nvPicPr>
        <p:blipFill>
          <a:blip r:embed="rId2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http://cs.nblz.ru/pp/c639621/v639621913/5483/cdQJarZgt0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хтареев Олег заполняет документацию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http://cs.nblz.ru/pp/c837320/v837320368/220f3/qQlYrTTSuh8.jpg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10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ерышов Владислав проводит урок в 1 классе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http://cs.nblz.ru/pp/c639119/v639119722/925e/tcmxwqkcE7M.jpg"/>
          <p:cNvPicPr/>
          <p:nvPr/>
        </p:nvPicPr>
        <p:blipFill>
          <a:blip r:embed="rId2"/>
          <a:stretch/>
        </p:blipFill>
        <p:spPr>
          <a:xfrm>
            <a:off x="0" y="1198440"/>
            <a:ext cx="9144000" cy="56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7-02-08T05:29:5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