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94FD-0F2F-48BE-B0C3-B80945136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4E27-85F6-419E-9012-CA9BD6E8C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563F-3F07-409D-90E4-70E15C94B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B817-96A7-4A8D-8462-4E25CE265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39F0E-5BC1-4F5C-9D53-B923EF623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06A76-8B7E-4CE4-96B7-51EF133BE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09220-905C-4192-B893-14176F07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6D259-765B-49B4-B42D-404990497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98DD5-6A43-47E6-B0B8-EE9F0B30F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53907-10F5-4977-9373-5FD1C376E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18158-69DE-4769-B74D-F2D33D72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C2D0-C7FA-4812-ACFC-A1EBFFB3C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CB70C-5203-4795-BB98-28540920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F4969-AEE6-41D9-B4C5-3B9891C9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D81A9-6DB3-412B-95AC-49F161584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E5B2A-B303-4698-AB81-58E25BCAD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CD7A5-8582-4E1B-B8B2-289C53A48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B0D6-0BBE-466A-831F-C8C153B20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BCFB-333C-469C-A9D4-75E6427E7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CF01-47A7-4766-8018-D8C32C94D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4531-A968-4B44-85BB-1FF264910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8DA4-7B43-40D1-8BA4-2AE4E959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1728-89BD-43F6-9A3C-B646B6E0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BA12-5C45-4571-B2D0-541E8F66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09075-B6C2-4754-86DA-4961E37455B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0F88-069F-4B89-98B1-534EB4931A7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Педагогическая практик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актику проходил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хтареев Оле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афаров Ильна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ереселидзе Гиорг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ерышов Владисла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фарова Аи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рмашула Ольг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нбеков Дани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илимзянов Робер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зат Гатаулл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http://cs.nblz.ru/pp/c639119/v639119722/9254/Vr6umYF7i1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http://cs.nblz.ru/pp/c639731/v639731308/725/1uFRQf9N3e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афаров Ильнар проводит урок в 4 классе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http://cs.nblz.ru/pp/c636426/v636426308/4b733/0tpAg_xe9f8.jpg"/>
          <p:cNvPicPr/>
          <p:nvPr/>
        </p:nvPicPr>
        <p:blipFill>
          <a:blip r:embed="rId2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10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нир и Азат проводят урок в 4 классе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http://cs.nblz.ru/pp/c636426/v636426308/4b702/AVV-JNh8vUk.jpg"/>
          <p:cNvPicPr/>
          <p:nvPr/>
        </p:nvPicPr>
        <p:blipFill>
          <a:blip r:embed="rId2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http://cs.nblz.ru/pp/c636426/v636426308/4b6e6/6a9vZy41db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10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ида проводит урок в 5 классе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http://cs.nblz.ru/pp/c636426/v636426308/4b73d/yUhbSBEjxTk.jpg"/>
          <p:cNvPicPr/>
          <p:nvPr/>
        </p:nvPicPr>
        <p:blipFill>
          <a:blip r:embed="rId2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http://cs.nblz.ru/pp/c639621/v639621913/5483/cdQJarZgt0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хтареев Олег заполняет документацию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http://cs.nblz.ru/pp/c837320/v837320368/220f3/qQlYrTTSuh8.jpg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10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ерышов Владислав проводит урок в 1 классе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http://cs.nblz.ru/pp/c639119/v639119722/925e/tcmxwqkcE7M.jpg"/>
          <p:cNvPicPr/>
          <p:nvPr/>
        </p:nvPicPr>
        <p:blipFill>
          <a:blip r:embed="rId2"/>
          <a:stretch/>
        </p:blipFill>
        <p:spPr>
          <a:xfrm>
            <a:off x="0" y="1198440"/>
            <a:ext cx="9144000" cy="56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7-02-08T05:29:5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